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88D-CC42-4DD9-B77D-7ACD4AD8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B96-E5D4-4D0A-91C7-505C00B4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D8D-ED2A-4F03-97D8-684D8385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F8F-D8D0-40FB-B8BA-AA2DAAA0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39B77-5FE7-4B60-B4BB-AD6C137A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EE22-624C-47AE-B293-CD15BFAD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09A01-D536-4F29-964E-03878A1F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1B120-7099-494F-A95B-27C3FCE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7DC52-CEDE-45CD-A672-DEBD0DD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AB097-802E-471F-ACF0-37ADE57A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5A19C-7282-4A75-A713-0822EF2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342-DAEC-4A28-B3FC-B64190B7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6AB21-C66A-4470-B0AC-77738E0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A53F8-B19B-4A39-A8AC-74EFAF5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C52CE-9ADC-4466-AE0D-C3498DC6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6A8D-3472-4A8A-8880-8610CFD6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84A69-C1E4-490F-8A30-48DD5D84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28F-E043-4499-A191-030835A2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3EA-BB52-4E10-BF2A-2D1CAA2F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D94-E581-4E1C-B35D-70148E8D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588-52E4-4D7B-8EF0-32A86251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311-1371-4CF7-ABC2-02987EB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62C-E20E-466C-92B7-C0C750A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27A-2730-491E-A8E7-89F8845B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A46D-1437-460C-95FB-93BDC4819A0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F805-126D-4C88-ABF2-9D301B7C38E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ESENCIA Y EXISTENCIA – SER/ESTAR/ HA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nos ubicamos en el plano de la definición usam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hablar de algo que ya se ha mencionado y para localizar en el espacio se usa estar+ defi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Usamos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a localizar en el espacio algo cuya existencia se presupon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La tienda de Pep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calle san Ju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construcción absoluta, cuando tiene el sentido d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 present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o d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lis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 Puedo hablar con Julio?Lo siento,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 Y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 ¿Nos podemos ir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ara describir personas u oje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 si queremos presentar la descripción como alg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b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sam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Jua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to – aquellos niñ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avies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cuando la persona que habla está formuland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preciaciones subjetiv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guapa: ¿ te has cortado el pe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mid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riquís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Valoración de una actividad o un perí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esentada de manera fría 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bje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+ frase nominal/adjetiv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a chica muy simpát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las descripciones, con los adjetivos que presentan algo com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empo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,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nervioso. - ! Qué pesad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presentar característica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herent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inteligente /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 pesado /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sto ha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dje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se usan sól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contento, embarazada, resfriado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otros que se emple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más a menu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sequible, incomprens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elección entre ser y estar depende principalmente de la voluntad por parte del hablante de relativizar más o me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Generalmente,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tiende a presentar las cosas de manera má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fría y obje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nota una fuert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ticip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hablante. (experiencias vividas en primera persona por el hablant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habla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presenta a sí mismo com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lemento exter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, que se limita a contatar cosas que no dependen de é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gún Silvia Gumiel Molina( doctora en Filología Hispánica por la Universidad de Alcalá) los predicados se pueden dividir  en dos tip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predicados de estadio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predicad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redicad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combinarán siempre co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redicad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empre co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tre los predicados de indididuo hay dos grupos: l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fácilmente coaccionab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que pueden combinarse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 y 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difícilmente coaccionab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combin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ero pueden combinarse tambié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 hay algú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tro elemen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los ancla tempor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¡Qu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inteligent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 h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is alumnos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través del mecanismo de la 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oac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gunos 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transforman e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estadi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ategorizan individuos como pertenecientes a una clase específica y se combin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djetivos con propiedades clasificatori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joven, estudiante, italiano, cauto, constante, (des)cortés, (des)leal, (in)capaz, inteligente, odioso, sabio, temerar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predicad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túan al individuo en 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iempo y espac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determinados y se combin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hic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borracho,enfadado, nervioso, triste, en Rom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dos grupos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djetivos de individu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que se combin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fácilmente con 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alegre, alto, feo, flaco, hermoso, nervioso, tranquil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qu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ecesita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algú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lemento léx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un element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empo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“hoy” o de estar en una oració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xclam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para la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os alumn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intelig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- ¡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Qué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inteligent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is alumnos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Tahoma"/>
              </a:rPr>
              <a:t>H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 hablar de la existencia de algo se usa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Tahoma"/>
              </a:rPr>
              <a:t>hay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" sz="2800" spc="-1" strike="noStrike">
                <a:solidFill>
                  <a:srgbClr val="ff5050"/>
                </a:solidFill>
                <a:latin typeface="Tahoma"/>
              </a:rPr>
              <a:t>forma irregular del verbo habe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En los tiempos diferentes del presente se usa la </a:t>
            </a:r>
            <a:r>
              <a:rPr b="0" lang="es-ES" sz="2800" spc="-1" strike="noStrike">
                <a:solidFill>
                  <a:srgbClr val="ff5050"/>
                </a:solidFill>
                <a:latin typeface="Tahoma"/>
              </a:rPr>
              <a:t>tercera persona sing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usa esta forma para introducir en el contexto </a:t>
            </a:r>
            <a:r>
              <a:rPr b="0" lang="es-ES" sz="2800" spc="-1" strike="noStrike">
                <a:solidFill>
                  <a:srgbClr val="ff5050"/>
                </a:solidFill>
                <a:latin typeface="Tahoma"/>
              </a:rPr>
              <a:t>algo que todavía no se ha mencion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para darle o negarle exis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Gerundi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construyen sól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dado que denotan event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cotados temporalm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por lo tanto s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dicados de esta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ticipi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pueden combinar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 y 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ombinan con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ticipios que indic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o anclados temporalm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u mujer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 am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or otro hom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ticipios que indica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verbos de duración qu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ienen delimit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perr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 s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cariciad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combinan tant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articipios que indican event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delimitad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puer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bierta – La puer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 s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bierta (por algui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rases 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de caráct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mperfe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rases 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n de caráct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erfectiv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lamam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perfectivas las acciones de duración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limitada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necesitan llegar a su final, a su perfección para producir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ej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dispar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mori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qu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ólo se conciben en su acabamien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lamamos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mperfectivas las acciones de duración ilimita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pueden poducirse sin llegar a su término tempor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querer, saber, conocer, respetar)</a:t>
            </a:r>
            <a:r>
              <a:rPr b="0" i="1" lang="es-ES" sz="2400" spc="-1" strike="noStrike">
                <a:solidFill>
                  <a:srgbClr val="ff505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Silvia Gumiel Molina las oraciones 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 y 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 expresan acciones, sin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ualidad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cualidad que se atribuye a un sujeto se pue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nunciar en sí mism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n atender a su origen(en este caso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el verbo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orque interesa su duración o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permanencia)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or tanto, es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imperfecti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la ventana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 nu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 se puede considerar como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resultado de una acción o camb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caso se usa el verb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que se percibe como efecto  de una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ransform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por tanto 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erfec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transformación puede s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re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ventan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ro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 supuesta, sin que se haya produci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ventan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intacta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porque se piensa que habría podido ocurrir algún accid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samos en españo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pensamos que la cualidad 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resultado d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deveni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al o supues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asta con que, al enunciar una cualidad, haya en nuestro pensamiento una leve suposición de que ha podido ser causada por una acción o cambio, por algún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evenir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que empleemos el verb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emplos del cambio real o supuesto efecto de un devenir ocurrido   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s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 roto, intacto, maduro, hermoso, muer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esent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 cayendo, lloviendo, entran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(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empre con gerundi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 por ver, por barrer, sin venir, para entr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(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erífrasis que expresa futu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 alegre, triste, melancólico, risueñ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refiere a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aráct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una perso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gnificarían una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lteración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dev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ara saber si se ha producido  cambio, nos valemos generalmente de la experiencia, de modo que los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juici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depende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inmediatamente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de nuestr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5050"/>
                </a:solidFill>
                <a:latin typeface="Verdana"/>
              </a:rPr>
              <a:t>experi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se expresan con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veo que un niño ha crecido y digo que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alto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uebo el café y digo que </a:t>
            </a:r>
            <a:r>
              <a:rPr b="0" i="1" lang="es-ES" sz="32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frío.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l ejemplo siguiente, el enunciador está expresando una valoración sobre lo que está comiendo; es decir que parte de su experiencia pers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stá todo muy ric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Matte Bo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afir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interesante notar que, cuando el enunciador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presenta cosas nuev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se sitúa en el nivel de las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definicion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—es decir,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fuera del tiempo y del espa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n los que se produce la enunciación—, las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coordenadas espaci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como las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tempo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se expresan con </a:t>
            </a:r>
            <a:r>
              <a:rPr b="0" i="1" lang="es-ES" sz="3200" spc="-1" strike="noStrike">
                <a:solidFill>
                  <a:srgbClr val="ff5050"/>
                </a:solidFill>
                <a:latin typeface="Tahoma"/>
              </a:rPr>
              <a:t>se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usar este operador de manera adecuada es necesario entender bien el concepto gramatical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defin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no significa cosas imprecisas, sino cosas qu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odavía no han aparecido en el contexto, por lo tanto se encuentran en su primera men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jempl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t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ersonas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indefin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ientra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las tres/esas t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erson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definido porque se refiere a algo ya mencionado a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¿Dónde vives?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B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Zagarolo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¿Y eso dónde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  <a:ea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?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l ejemplo el enunciador no ha «reconocido» el nombre del lug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 este motivo, en lugar de pedirle a su interlocutor que se lo coloque simplemente en el espacio, le pid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  <a:ea typeface="Verdana"/>
              </a:rPr>
              <a:t>una definición en términos espa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juici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gener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independientes de nuestra experiencia inmediata se formulan co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nieve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fría, el agua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anspar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af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margo / Este caf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ul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agu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ansparente / El agua de este rí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urb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, como en (87), nos hallamos ante una valoración a la que el enunciador quiere conferir un carácter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univers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ob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para qu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 parezca que él está hablando de su experienci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de su percepción de la realidad, us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lugar de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scondiéndose en cierta medida tras sus palabras, como si dijera: «No lo digo yo, no es una valoración mía, todo el mundo lo puede ver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7)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simpática. /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insoportable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 tipo de enunciado (con ser) se produce con mayor frecuencia cuando nos hablan d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person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a las qu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no conoce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o cuando se está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describien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l carácter de alguien (es decir, que s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está informan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obre ese alguien o negociando informaciones nuevas que le conciernen; en esos casos, tendemos a presentar las cosas como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objetivas)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ismo tipo de enunciado puede producirse también en una situación en la que se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valora lo que se ha podido observ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lo que se sabe sobre una persona (por ejemplo, al final de una fiesta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88)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or fin he conocido a Andrea. </a:t>
            </a:r>
            <a:r>
              <a:rPr b="0" i="1" lang="es-ES" sz="3200" spc="-1" strike="noStrike">
                <a:solidFill>
                  <a:srgbClr val="ff0000"/>
                </a:solidFill>
                <a:latin typeface="Tahoma"/>
              </a:rPr>
              <a:t>Es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muy simpátic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ste contexto también se están presentando o negociand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informacion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que se pretende que sea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objetiv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(aunque también son valoraciones encubiertas) y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desvinculada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d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nuestra experiencia person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y del conocimiento previo que tenemos o teníamos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s interesante señalar que en este mismo contexto el enunciado también podría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 fin he conocido a Andrea. M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ha parec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muy simpátic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parec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e parec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e ha parec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el enunciador presenta su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valor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alg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ue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sin ninguna relación con nada previ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a present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n relación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con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su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onocimient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revi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lo que ya sabía), que no dejan de tener vigenc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5050"/>
                </a:solidFill>
                <a:latin typeface="Verdana"/>
              </a:rPr>
              <a:t>Usos de ser/estar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 para identificar el suje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Qu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Quié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Cuá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¿Qué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e muchacho?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geniero téc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Quié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e muchacho?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uis, el hermano de 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? Cuá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coche de tu amigo?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primero de la derech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 para situar 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Dónde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Lugar re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adrid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centro de España.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m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c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figur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termómetr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diez gr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alores ferroviari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uy baj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er 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irve también para situar  acontecimientos en un lug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La conferenci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Aula Mag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n el 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La conferenci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día 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os cas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quivale 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uceder, ocurrir, celebrarse, tener lug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hab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combina con elementos que sirven para hablar de objeto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no identificables por el oy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mi ciudad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cho tráf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la fiesta de Maris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bí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ás de cien perso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- ¿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a farmacia cer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lo tanto, cuando se trata de hacer referencia a un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localiz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hay que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ijarse en 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jeto 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ersonal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o u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bje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se utiliza el verb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Nápoles está en Campania – Ana está en la coc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sujeto es u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acontecimient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hay que utilizar el verb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onciert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el teatro San Car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nte  los siguientes ejempl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exámen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la Sala de Alumnos”  y “Los exámen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la Sala de Alumnos” 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imer caso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que interpretar 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jeto como  un ob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(el papel en el cual está escrito el contenido del examen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gundo caso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hace referencia a 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realización del m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atribuimos a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jeto la cualidad expresada por un ad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verbo puede ser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Cómo es ? ¿Cómo está?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Atribuye al sujeto un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ualidad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que le corresponde por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naturalez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expre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aracterísticas permanent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jemplo, descripciones personales tales como alto, bajo, guapo (incluso: feliz, viejo, rico, pob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también con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adjetivos de color, forma, tamaño, nacionalidad, religión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, etc., y nombres que indican </a:t>
            </a: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profesión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s azul, redondo, pequeño, inglés, cató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s médico, abogado, profe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osi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del sujeto en una serie normalmente se expresa co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se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ero cuando esta posició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no es definitiv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, puede aparecer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uso de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fatiza el carácter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rovisional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 eso se emplea, por ejemplo, durante el desarrollo de una competició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Aunque en la clasificación final quedó del diez para atrás, llegó 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el cuarto. El caballo responde; de moment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el segu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, en cambio, se usa par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identific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por su puesto en una serie, algo o a alguien que el interlocutor no cono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 el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primer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la list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cualidad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que sólo admite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o que admiten preferentemente ser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otras que solo admite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o que admiten preferentemente esta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jemplo generalmente usamos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mos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un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necesidad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u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oblig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 precis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legar a tiem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hacemos referencia a un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norm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 just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edir permiso ante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ncuadramos al sujeto en un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las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 obrero especi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xpresamos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aversión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impatía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cia un suje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un chico muy simpát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cárcel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eces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La mili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voluntaria,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zo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Los cinturones de seguridad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bligator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Jua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ficionado al c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El emigrant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pañ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tidario del divor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expresamos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do físico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generalmente usamos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ce nueve meses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fe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Pienso que y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u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No te preocupes,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uy despier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us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también cuando hay u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adverbi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locución adverbial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Creo qu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allí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uy bien avenidos, en perfecta armon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algunos enunciados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uso de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gener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diferentes interpretacion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como,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(91)</a:t>
            </a:r>
            <a:br>
              <a:rPr sz="2800"/>
            </a:b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iego, pero n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ieg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veces, los manuales de gramática nos dicen, a propósito de enunciados como este, que, en realidad, el adjetivo (en este caso,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ieg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tiene dos sentidos distintos, por lo que se justifica el uso de dos verbos distin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gún Matte Bon el adjetivo siempre es el mismo, y qu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i cambia la interpretación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am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 él, esto depende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xclusivamente d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uso d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o d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cimos q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Ser/est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traducen el italiano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ess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haber/est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traducen : </a:t>
            </a:r>
            <a:r>
              <a:rPr b="0" lang="es-ES" sz="3200" spc="-1" strike="noStrike">
                <a:solidFill>
                  <a:srgbClr val="ff5050"/>
                </a:solidFill>
                <a:latin typeface="Tahoma"/>
              </a:rPr>
              <a:t>c’è/ci son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rimer cas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e está describiendo un dat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ob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el personaje es invid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gundo cas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uso d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implica necesariamente un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valoración personal del habla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 usar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l hablante señala a su interlocutor que está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responsabilizándose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 lo que dice, que es algo que le perten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otros contextos es perfectamente posible el uso de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ieg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verb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2)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Me pasas ese libro?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Qué libro? No veo ningún libro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e que tienes ahí delante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¿Dónde?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hí, ¿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iego, no lo ves?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un contexto como este, el uso de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ta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expresa toda 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ubjetividad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del enunciador (incredulidad, sorpresa, enfado, etc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tinuemos analizando los diferentes sentidos de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Veamos estos dos enunci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España la fru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y buen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n España la fruta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buenísima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s dos enunciados pueden ser proferidos por una persona que se encuentra en el extranjero desde hace varios años y que no ha tenido ningún contacto reciente con España: esa era la situación del enunciador al que oímos proferir el segundo de estos enunci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explicación tradicional, según la cual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ría para expresar propiedades momentáneas, según Matte Bon se revela aquí inadecuad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diferenci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entre estos dos enunciados radica exclusivamente en l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actitud adoptada por el enunciado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rime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se compromete,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no se responsabiliza de lo que está diciendo;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 el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gund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presenta lo que dice como alg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respaldado por su experienci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personal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Ser y estar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con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gerundio y particip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un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gerund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posible sólo el uso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star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formas progresiv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Está comiendo un hela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un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particip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ser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 referencia a una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a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star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 referencia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resultad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una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acción anterior, acabad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uele expresarse el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ag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particip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usado como </a:t>
            </a:r>
            <a:r>
              <a:rPr b="1" lang="es-ES" sz="3200" spc="-1" strike="noStrike">
                <a:solidFill>
                  <a:srgbClr val="ff5050"/>
                </a:solidFill>
                <a:latin typeface="Tahoma"/>
              </a:rPr>
              <a:t>adje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cordando en género y en número con el suje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temos la diferencia entre las dos fr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casas </a:t>
            </a:r>
            <a:r>
              <a:rPr b="0" i="1" lang="es-ES" sz="3200" spc="-1" strike="noStrike">
                <a:solidFill>
                  <a:srgbClr val="ff5050"/>
                </a:solidFill>
                <a:latin typeface="Tahoma"/>
              </a:rPr>
              <a:t>eran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ficadas con mucho cuid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casas </a:t>
            </a:r>
            <a:r>
              <a:rPr b="0" i="1" lang="es-ES" sz="3200" spc="-1" strike="noStrike">
                <a:solidFill>
                  <a:srgbClr val="ff5050"/>
                </a:solidFill>
                <a:latin typeface="Tahoma"/>
              </a:rPr>
              <a:t>estaban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ficadas con mucho cuidado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primer caso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ran edificadas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ude al momento de su construcció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ambio </a:t>
            </a:r>
            <a:r>
              <a:rPr b="1" i="1" lang="es-ES" sz="3200" spc="-1" strike="noStrike">
                <a:solidFill>
                  <a:srgbClr val="ff5050"/>
                </a:solidFill>
                <a:latin typeface="Tahoma"/>
              </a:rPr>
              <a:t>estaban edificadas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dice desde el momento en que su construcción fue conclu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s más frecuent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c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on l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articipios de verbos perfectiv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orque se sienten más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próximos a la acción verbal que los produce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estar herido, fastidiado, cansado, escrit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Co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ser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l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articipi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de los verb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imperfectiv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toman sentido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as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ser querido, aborrecido, estim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Verdana"/>
              </a:rPr>
              <a:t>en este caso se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pierde el sentido perfectivo del participo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Practicam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i amigo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es  está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de la República Dominic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- ¿La mesa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/está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e madera? No, es de fórm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- ¿De quié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/está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?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Es/está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 de la mamá de Anton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Soy/estoy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de lu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Son/están </a:t>
            </a:r>
            <a:r>
              <a:rPr b="1" i="1" lang="es-ES" sz="2800" spc="-1" strike="noStrike">
                <a:solidFill>
                  <a:srgbClr val="ff5050"/>
                </a:solidFill>
                <a:latin typeface="Verdana"/>
              </a:rPr>
              <a:t>de viaje</a:t>
            </a:r>
            <a:r>
              <a:rPr b="1" lang="it-IT" sz="28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s libros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son / 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de la profesora nue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a clas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s /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 está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a las o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¿Dónde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sois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is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vosotr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teléfono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es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ibre ah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Mateo siempre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es/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cont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u hermana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es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bonita ho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os profesores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son / 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  apur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a fiesta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/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en mi c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Los conciertos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son/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en el parq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5050"/>
                </a:solidFill>
                <a:latin typeface="Verdana"/>
              </a:rPr>
              <a:t>CONTRASTE SER/ES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gramática tradicional presen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mo la definición de l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momentáne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lo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erman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establ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gún Matte Bon esta oposición define sólo parcialmente el problema que es mejor presentar de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manera fun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Marcos y Elena </a:t>
            </a:r>
            <a:r>
              <a:rPr b="1" i="1" lang="en-US" sz="2800" spc="-1" strike="noStrike">
                <a:solidFill>
                  <a:srgbClr val="ff5050"/>
                </a:solidFill>
                <a:latin typeface="Verdana"/>
                <a:ea typeface="Verdana"/>
              </a:rPr>
              <a:t>son/está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nervios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Quiénes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son / está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  los estudiantes nuev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pupitre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/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de metal y plá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pescado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muy bue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El Sr. Sanchez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 /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Verdana"/>
                <a:ea typeface="Verdana"/>
              </a:rPr>
              <a:t>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joven cuando juega al fútb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Mi madre siempre  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es   /   est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   ocup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Usamos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 pa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dentificar o definir alg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arbó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negro – Est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ber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os usos , a veces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ser concuer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complemento predicativo y no con 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i sueldo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sólo 800 euros al m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hablar de orígen , nacionalidad o procedencia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de algo o alguie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rtín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lombiano – Estos toro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s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una granja en Valladol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nformar de la profesión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édico).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n embargo cuando se habla de una actividad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tempo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</a:t>
            </a: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estar d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en estos día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toy d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amarero en un ba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emás cuando se subraya que una actividad no corresponde a la profesión principal del sujeto  se usa </a:t>
            </a:r>
            <a:r>
              <a:rPr b="1" lang="es-ES" sz="2800" spc="-1" strike="noStrike">
                <a:solidFill>
                  <a:srgbClr val="ff5050"/>
                </a:solidFill>
                <a:latin typeface="Verdana"/>
              </a:rPr>
              <a:t>hacer de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omo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hac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n el niño en julio? Mi madre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hará d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anguro por las mañan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5050"/>
                </a:solidFill>
                <a:uFillTx/>
                <a:latin typeface="Verdana"/>
              </a:rPr>
              <a:t>informar sobre el material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lana, de pana, de alg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5050"/>
                </a:solidFill>
                <a:latin typeface="Verdana"/>
              </a:rPr>
              <a:t>para dar la coordenadas espaciales y temporales de algún acontec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Las elecciones </a:t>
            </a:r>
            <a:r>
              <a:rPr b="0" i="1" lang="es-ES" sz="2800" spc="-1" strike="noStrike">
                <a:solidFill>
                  <a:srgbClr val="ff5050"/>
                </a:solidFill>
                <a:latin typeface="Verdana"/>
              </a:rPr>
              <a:t>fuero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199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30T14:51:4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